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type.wav" ContentType="audio/x-wav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0FA9E-69DA-4114-A486-1BEFE260676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3AC06-6A1E-4604-89A2-072F86112BD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2514-2A1F-47FE-A641-278F023A51E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BB56-D685-4A35-9EFE-5C70A38EB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ADA7-5983-4DCD-836C-A12C0D324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85BB-BE29-4F04-8C18-38F882DD3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9650-D336-4AAD-A8FD-8BC99C5B9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CF7AE-82F0-4E59-9DC9-01766D763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3ECE0-53C0-4606-872A-F07AF09A5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C297F-3A0C-4A7F-96EE-FECF50C01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665CC-AE11-4B8A-97E5-1CD5B78D2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2B48C-6E89-4521-8C63-0468852CA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6A46B-629E-48A9-8776-23F751ADB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2040D-75E6-4BB6-B9E6-BE3C1E0E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0347-8D97-4146-9ACC-F6F75FE9C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0E07D-5453-456E-9E04-8B0F2E31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528E2-C867-46B4-A75A-8CED1F5A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FBA32-7478-454B-8DD9-B7EB19FE0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6AA4D-5215-4805-8497-193BD5123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C2AB1-589C-4247-9DDF-19658345D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C067-1A88-4859-9D68-868168154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FF01-5661-4E60-9E57-CAE80DABF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C5D3-F0B9-4555-BDEF-4A8222A5B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87F4-B357-4D1D-83E9-9F225C4B2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7769-55C8-4929-A2A0-650E4DBC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53A1-75E4-41DB-8693-FE02B8F4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2959-BD6D-441F-B8D9-1B3AF99C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45EE7-EA62-4646-BF08-606A1FA4FC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9CE61-96B7-4DE3-8517-806D69FC9D75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Concepts of Medical Anthropolog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jaak van der Ge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dical Anthrop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iversity of Amsterd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ultural anthropology - Medical anthropolog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lth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dy as instru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dy: being in the wor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us of production of mea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dy as su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y in times of pe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ck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dy as enem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dy: rupture with the wor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us of crisis, chaos, danger, s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dy as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apon of res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Explanatory mod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1. etiology (why? because of what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2. onset of sympto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3. pathofysi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4. course of sick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Treatment (what to do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(Kleinman 1980:105; Helman 2000:85-8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1052640"/>
            <a:ext cx="7792920" cy="70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llness explan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ersonalistic explan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llness is attributed to the work of a person or conscious agent; someone is bl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xamp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aturalistic explan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llness is not attributed to a person or conscious agent: it just happens, like a natural phenomen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xamp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91920"/>
            <a:ext cx="779292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llness explanations are not just cultural; they can also have a (hidden) social or political meaning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492280"/>
            <a:ext cx="77724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sonalistic …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turalistic …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sonalistic explan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it satisfactor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who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es it provide a starting point for ac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turalistic explan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it satisfactor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whom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it provide a starting point for acti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llness explanations express social and other interests of those who produce them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personalistic or naturalistic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421000"/>
            <a:ext cx="7772400" cy="36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ient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vironmen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ct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thropologist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sonalistic and naturalistic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sonalistic is not a more “primitive” view of illness causes than naturalisti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sonalistic is not more “cultural” and less “scientific” than naturalisti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sonalistic and naturalistic views do not exclude one another: they often occur togeth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1052640"/>
            <a:ext cx="779292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33399"/>
                </a:solidFill>
                <a:latin typeface="Tahoma"/>
              </a:rPr>
              <a:t>Therapy management group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1125360"/>
            <a:ext cx="77929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Anthropology </a:t>
            </a:r>
            <a:r>
              <a:rPr b="0" i="1" lang="nl-NL" sz="3600" spc="-1" strike="noStrike">
                <a:solidFill>
                  <a:srgbClr val="333399"/>
                </a:solidFill>
                <a:latin typeface="Tahoma"/>
              </a:rPr>
              <a:t>of</a:t>
            </a: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 / </a:t>
            </a:r>
            <a:r>
              <a:rPr b="0" i="1" lang="nl-NL" sz="3600" spc="-1" strike="noStrike">
                <a:solidFill>
                  <a:srgbClr val="333399"/>
                </a:solidFill>
                <a:latin typeface="Tahoma"/>
              </a:rPr>
              <a:t>in</a:t>
            </a: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 medicine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nthropology of medicine: outside perspective / theoretical / critical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nthropology in medicine: ‘embedded’, applied, ‘useful’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annot be separated however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Overview lectu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Anthropological persp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Anthropology of illness and of healthc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Three sectors of health c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Disease vs ill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Cult. anthrop. vs medical anthr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Explanatory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Two ‘types’ of expla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Therapy managemen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Anthropology </a:t>
            </a:r>
            <a:r>
              <a:rPr b="1" i="1" lang="nl-NL" sz="2800" spc="-1" strike="noStrike">
                <a:solidFill>
                  <a:srgbClr val="000000"/>
                </a:solidFill>
                <a:latin typeface="Tahoma"/>
              </a:rPr>
              <a:t>of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 / </a:t>
            </a:r>
            <a:r>
              <a:rPr b="1" i="1" lang="nl-NL" sz="2800" spc="-1" strike="noStrike">
                <a:solidFill>
                  <a:srgbClr val="000000"/>
                </a:solidFill>
                <a:latin typeface="Tahoma"/>
              </a:rPr>
              <a:t>in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 medic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475920"/>
            <a:ext cx="779292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nthropological perspective on medical issu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ic /e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r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cipant ob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sp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edical   vs   anthropologic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if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suring (quant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vidual-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ana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w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if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ic (and eti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ptive (qualit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uali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predic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Anthropology of health/illness and of healthca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"/>
          <p:cNvPicPr/>
          <p:nvPr/>
        </p:nvPicPr>
        <p:blipFill>
          <a:blip r:embed="rId2"/>
          <a:stretch/>
        </p:blipFill>
        <p:spPr>
          <a:xfrm>
            <a:off x="1168560" y="1987560"/>
            <a:ext cx="599580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nthropology of health / illnes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igi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socio/cultu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ression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socio/cultu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be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socio/cultu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lanation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socio/cultu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enc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socio/cultu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llness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= socio/cultu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75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75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75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75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75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nthropology of health ca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PREV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ct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UR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s / eti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ct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cal plural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apy 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ctition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ctitioner-patient relation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Three sectors of health ca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2"/>
          <a:stretch/>
        </p:blipFill>
        <p:spPr>
          <a:xfrm>
            <a:off x="1258920" y="1884240"/>
            <a:ext cx="6842160" cy="42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ISEASE     VS     ILLNES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si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isto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iona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i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lt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 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tru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rationa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39:47Z</dcterms:created>
  <dc:creator>BU</dc:creator>
  <dc:description/>
  <dc:language>en-US</dc:language>
  <cp:lastModifiedBy>Owner</cp:lastModifiedBy>
  <dcterms:modified xsi:type="dcterms:W3CDTF">2013-11-18T12:33:27Z</dcterms:modified>
  <cp:revision>37</cp:revision>
  <dc:subject/>
  <dc:title>Meanings of growing old Care of elderly people</dc:title>
</cp:coreProperties>
</file>